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2AB0-4263-42AB-A962-5C68186CE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D788-ED7D-4947-9B2B-DBEAE7FE0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5634-02EB-44D3-8C6D-D7F3C60A0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0BE9-F796-417F-91F0-56E041A94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60556A-F1D2-472E-AF31-CA4047D0C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26232D-734A-4D5A-96B3-A4C88F43B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FE75E8-2CBD-4FC8-B61D-35ED92378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F54C3F-BA23-4386-9972-61229A8B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569D16-0475-4693-AC2B-2169B2061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E45D88-DD8C-414D-A2D9-3BC2B8A0D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BAF193-368F-430E-AFD8-2A710CF7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2D12-7054-406A-BDB3-89B0F6DD8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D03CA5-7603-4D52-83E4-3BC4590B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3229DA-E6A8-4AED-BCCC-959AB9C7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A2B373-6881-46BE-B73D-F699D7207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441903-5D02-416C-B1E3-BBD99D5EF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775B36-A7B7-49F3-8A16-0A2B5BC9B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01630-E10B-4A04-A724-41D6B38BF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8E865-7218-452F-A731-CE9FF3948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42034-A5C8-480D-85F5-79432A7D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A97C8-F689-45DC-ADBC-CAD6D1090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88C15-869D-480D-8433-707ED3654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D83D-3F97-4FB0-A845-C86BCBE7B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889AA-E755-4022-99D7-FF4A814AC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346D7-BECA-4BAB-A071-F1F3CCE3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73ECE-9E90-41B3-8FB5-F1CB25A7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24581-2BD3-4623-9301-C958B927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70EFA-011C-4381-A386-F4500F631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3D04D-2EC9-4B76-A070-6D1DF8CDC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6862D-E26B-4940-B057-265D1BC16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CA13-8EE4-463E-8D4E-1C2E03A70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059B-B631-4B09-A76C-9A5AE7553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B497-09EB-4923-A9AD-E4FB30AF1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5053-A494-4A11-9392-19452B79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4BDD-34FD-4A5A-B528-1A2F5C62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970B-3C86-44D6-B3FB-BB2019A8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86638-8343-4C2B-AE1B-B5F05026D2A4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9BEBB-C6FD-45E7-91D5-2B1830D6A072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ftr" idx="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83470-B648-49A8-BD0F-BBC8ED33E068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Alken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t least one double bond present in the main chai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eneral formula is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2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rm a trigonal planar shap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Note: more on shapes in the next unit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reate a 120° angle between bond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sidered “unsaturated” because other hydrogen atoms can be adde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lways end in “~ene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omenclatur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ry naming this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3,4-dimethyl 1-hexyn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247840" y="2349360"/>
            <a:ext cx="606924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omenclatur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ow let’s draw 1-butyne and 2-butyne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-butyn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-buten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24000" y="3573360"/>
            <a:ext cx="4130640" cy="16210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924360" y="4076640"/>
            <a:ext cx="4913280" cy="3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omenclatur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et’s try a structure with more than one triple bond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,4-hexadiyn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24000" y="3860640"/>
            <a:ext cx="8443800" cy="3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omenclatur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et’s put everything together and name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4-ethyl-4,5-dimethyl 2,6-octadiyn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476360" y="2708280"/>
            <a:ext cx="662940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omenclatur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Identify and name the </a:t>
            </a: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Georgia"/>
              </a:rPr>
              <a:t>longest carbon chain that CONTAINS THE DOUBLE BOND(S)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Number the carbons in the chain so that the two carbons involved in the double bond have the lowest possible numbers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If the double bond is equidistant from both ends, number the chain so that the substituent(s) have the lowest possibly number.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ollow same rules for identifying and naming prefixes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omenclatur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ry naming this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-ethyl 1-penten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554120" y="3068640"/>
            <a:ext cx="62737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omenclatur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ow let’s draw 1-butene and 2-butene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-buten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-buten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958680" y="3141720"/>
            <a:ext cx="3157560" cy="23749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861080" y="2924280"/>
            <a:ext cx="334800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omenclatur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et’s try a structure with more than one double bond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,3-pentadien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050920" y="3068640"/>
            <a:ext cx="4886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omenclatur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et’s put everything together and name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4-ethyl-3,6-dimethyl 1,2,4-octatrien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863640" y="2781360"/>
            <a:ext cx="67579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Diastereomer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sider the following compounds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is-2-buten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rans-2-buten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-methyl-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-propen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39640" y="3645000"/>
            <a:ext cx="2500560" cy="11016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3228840" y="3103560"/>
            <a:ext cx="2638440" cy="19810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5557680" y="3071880"/>
            <a:ext cx="290196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Alkyn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t least one triple bond present in the main chai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eneral formula is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2n-2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rm a linear shap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Note: more on shapes in the next unit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reate a 180° angle between bond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sidered “unsaturated” because other hydrogen atoms can be adde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lways end in “~yne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omenclatur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Identify and name the </a:t>
            </a: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Georgia"/>
              </a:rPr>
              <a:t>longest carbon chain that CONTAINS THE TRIPLE BOND(S)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Number the carbons in the chain so that the two carbons involved in the triple bond have the lowest possible numbers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If the triple bond is equidistant from both ends, number the chain so that the substituent(s) have the lowest possibly number.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ollow same rules for identifying and naming prefixes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2T09:49:02Z</dcterms:created>
  <dc:creator>C. Shopman</dc:creator>
  <dc:description/>
  <dc:language>en-US</dc:language>
  <cp:lastModifiedBy>C363966</cp:lastModifiedBy>
  <dcterms:modified xsi:type="dcterms:W3CDTF">2017-09-09T00:27:28Z</dcterms:modified>
  <cp:revision>57</cp:revision>
  <dc:subject/>
  <dc:title>Intro to organic chemistry (orgo)</dc:title>
</cp:coreProperties>
</file>